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D7F7-BCAC-4A5C-8691-A1268AD1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49D3-1846-489D-BFFF-8265E4DB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785F-DF28-4625-8712-AC3CF6C7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DCD1-945F-4A45-A485-B2F0757A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2889-216B-4542-AB61-3F2A6760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159F-7784-42B7-97A5-B87D7EDC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D51E-35A9-489D-915B-6D3B7D9D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759D-D80C-4489-BADD-0D90C833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9EAB-D14A-4C27-802E-B099276C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352F-4AE8-45B4-BC08-C68B29EE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B6D9-24F3-4788-9FB4-63987A38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ABAF-9FBE-4B5E-90D7-35B7AB7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4666-D77C-4E34-A0AC-9EE4137D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C663-3464-4B4C-98DF-8F43C48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97CA-66E8-439E-9A4C-08DBA634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C8BB-5E7D-4EBA-9BE3-0E491BEA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02DD-0897-4FE9-879C-095D494F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0021-49B0-4B4D-9918-31E18527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513D-2844-4E23-9E10-E4E05D37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40D6-2A4E-484C-946A-A798E24D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5ACC-A890-4246-8F85-AD29FE8D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98CE-2F1D-4358-B525-9F1641F7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0528-A7E5-4DAC-AC6E-5F65668E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EDD3-3797-4983-837B-55846946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4C8E-B451-4F93-BEF5-D3B348C998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5EE9-A0AB-4CF1-88C6-DD058416B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D615D-009E-47E2-BBB9-878CF67B3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9000" y="4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Homophonic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884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Homophonic worksheet will allow you to run a frequency breakdown of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60480" y="3070080"/>
            <a:ext cx="5456160" cy="358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3000" y="2506680"/>
            <a:ext cx="1149480" cy="646200"/>
          </a:xfrm>
          <a:prstGeom prst="wedgeRoundRectCallout">
            <a:avLst>
              <a:gd name="adj1" fmla="val -46134"/>
              <a:gd name="adj2" fmla="val 6842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F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E53C-9D8C-416E-B96B-AD9F7D1BC9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Possib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5680" y="2120760"/>
            <a:ext cx="829476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Possible Word window allows you to enter a known word and CAP will search for possible number matches based on thre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number will not match two or more differ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letter will not match two different numbers in the sam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different letters match two different numbers in the same range, the difference between the numbers will match the difference between the two letters in their alphabet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D814-A917-43EB-8377-76BD83B71E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ed matches discovered in the Possible Word window can be entered into the workshee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plaintext will be displayed and can be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1652-B72C-4F01-A5A2-4F69361DC5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7T00:07:55Z</dcterms:modified>
  <cp:revision>74</cp:revision>
  <dc:subject/>
  <dc:title>CAP Cryptographic Analysis Program</dc:title>
</cp:coreProperties>
</file>